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9F6E0-1381-4FB3-BB1B-AC8240804F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69E05-E010-4E38-9F5D-F01FBAC755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E594D-253B-4FB6-984C-4FA2FB36F7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F3051-3824-4764-86A0-88BDFF5706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7FC41-FBC1-4993-89C2-4E9285E727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9AEED-0B62-4386-9160-1520424430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9F536-CD04-4A47-A5C5-2F4A46BBC6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EED76-70E5-4D0B-9106-D5CC18E665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3FBD0-8633-4F7C-9424-3A613C8E2B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CAE6D-604D-41D2-94D9-8E57EF95FA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E89C0-B0E8-404A-8232-9CE1E2659E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1F29B-F04C-4E26-8D6D-50901886AF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44F10-A568-4889-994C-76323387B4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D007D-57B2-479F-93AE-AD098D91C3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31D-71F1-4EE4-BEE2-CC43E0A4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BB4-B1A7-4464-B0E6-CBC7919A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E90-1D80-41E3-B63B-C7867A2B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2AC-86E3-4B72-A423-7E82B995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DE6-FCF4-473F-8C8A-38827741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D41-CFBC-4171-B48E-BAB5A339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0E8-C59B-4946-AF8F-C813965D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1F3-D7B6-4EC7-98D9-9823A769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14E-83E5-4DEF-9053-51C20887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0DC-DA66-4B22-A919-43485B1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36D-F450-43AD-A925-BB4E889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832-2DDE-4063-8490-01FF5953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0835A-0C84-4585-A77A-3C97154D1F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743200" y="1511280"/>
            <a:ext cx="453384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4200480" cy="57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866960" y="1428840"/>
            <a:ext cx="635004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9920" y="3171960"/>
            <a:ext cx="907236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öszönöm a figyelm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i a 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NetBSD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A projekt 1993 áprilisában jött létre a megrekedt 386BSD folytatásaként és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msgothic"/>
              </a:rPr>
              <a:t>ebbő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 adódóan a legrégebbi ma is aktívan fejlesztett teljes érté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msgothic"/>
              </a:rPr>
              <a:t>ű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, nyílt forrású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msgothic"/>
              </a:rPr>
              <a:t>UNI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-like operációs rendsz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megel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msgothic"/>
              </a:rPr>
              <a:t>ő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zve a pár hónappal ké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msgothic"/>
              </a:rPr>
              <a:t>ő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bb induló Slackware, Debian és FreeBSD projekte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Maga a BSD történelme a 70-es évekig, a UNIX h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msgothic"/>
              </a:rPr>
              <a:t>ő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gothic"/>
              </a:rPr>
              <a:t>skoráig nyúlik viss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etBSD 5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:1 thread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modulár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üte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eret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X real-time üte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X aszinkron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IX message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cessor set, CPU set, és thread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rnel pre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space fájlrendsze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etBSD 5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naplózó FFS fájlrendszer (wapb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írható UDF fájl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per-user /t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ASLR (Address Space Layout Random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amd64 XEN támog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Video4Linux2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USB Video Class d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dhcp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etBSD 6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új kernelmodul keret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bootloader: multiboot, boot.c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LVM volum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64bites time_t (y2k38 problé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netpgp, saját pgp az alaprendszer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genfb, framebuffer konzol i386/amd64-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pfsy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ZFS fájlren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ild.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828800" y="1695600"/>
            <a:ext cx="6372360" cy="4019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143000" y="6084720"/>
            <a:ext cx="77724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tBSD forrása lefordítható akár Windows alat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l találunk NetBSD-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vel a NetBSD egyik f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ofilja a beagyazott rendszerek támogatása, kedvez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cencével és fejlesz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rát kódbázisával sok beágyazott platformot keres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ég választja más rendszerek helyett. Íme egy kis ízelí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ő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600200" y="309600"/>
            <a:ext cx="5257800" cy="47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858000" y="527040"/>
            <a:ext cx="256068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8112240" y="1600200"/>
            <a:ext cx="1260360" cy="519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8229600" y="2682720"/>
            <a:ext cx="1049400" cy="28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6926400" y="4343400"/>
            <a:ext cx="267624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6"/>
          <a:stretch/>
        </p:blipFill>
        <p:spPr>
          <a:xfrm>
            <a:off x="674640" y="4572000"/>
            <a:ext cx="4811760" cy="14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7380360" y="3340080"/>
            <a:ext cx="1992240" cy="31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8"/>
          <a:stretch/>
        </p:blipFill>
        <p:spPr>
          <a:xfrm>
            <a:off x="6184800" y="5257800"/>
            <a:ext cx="2503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746280" y="1828800"/>
            <a:ext cx="3368520" cy="328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197320" cy="335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oka</cp:lastModifiedBy>
  <dcterms:modified xsi:type="dcterms:W3CDTF">2009-10-01T19:02:33Z</dcterms:modified>
  <cp:revision>13</cp:revision>
  <dc:subject/>
  <dc:title>Slide 1</dc:title>
</cp:coreProperties>
</file>